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A2F-45BE-4970-8D7B-6E251A49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5D6-0951-4DCA-8F24-6CBC58C1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2F7-D4F3-463D-91E4-A1AA2934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5AE-41E8-47CE-A344-D5067BB8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3DFD-A680-4ED3-BB04-BC886C68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BE8F-B127-41A4-AB08-8505BDBA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CA82-5857-4FD5-861B-B75EE83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2DEC-4141-4D0D-B14D-99BD07B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62D0-7868-45C6-BAB7-1B2150B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A32-4A0B-4779-B033-9F4F7DC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F84-F69E-46C1-B41F-D3E0E28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62F-59B5-46BA-A03E-1397301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A039-2370-4032-9238-54BAE59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0E6F-3869-4214-854E-212111C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51CF-C0AB-412F-89E9-A88AC6D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3B73-182B-404E-A0BF-E0388F3B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E65D-11BF-43A8-9AD9-33142729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4851-D19C-42E4-8A1E-F39480F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7172-E5E1-405E-AB28-1E1A9AE3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18EC-DDFC-4F63-B989-4A4C3841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F533-26C5-4C5E-BB7B-8EF4A24E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278B-34AF-405A-B290-22FF49C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2E4-E4BF-46B2-9BD4-96325AA0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8FAC-6531-49B2-BCA9-19A190AE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17A2-1753-41A6-9BFC-0F529EB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5727-3A9F-4021-9585-0C229DD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2F57-9046-448B-AD1A-57FDAD5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6684-8E93-46B5-9224-BA030F6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4FB7-5ADE-4FBD-B308-329FA194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4BCD-0D8D-43EE-91E0-B6E8E41C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7D9F-0BD2-44B9-B59F-3A13A77B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B1C0-3347-4E21-98DD-AE8C4E2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7B67-90BA-4359-90B7-D6C17DF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7B2-3B3A-4502-A053-DBAF85E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AE35-AA7C-4AB3-8776-0C000FF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A738-17B1-4336-B1F5-5C3CCA9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6F6E-5245-456D-B9DB-711BA79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B9BC-3457-4853-AF7F-09F766C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4E8C-B2CE-4E2D-ACE2-7CC4027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F974-C81C-454F-AD32-FA3FDD6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D8D6-01F5-4BCE-BD74-8F333843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7947-A936-4E5D-B7CB-E7130D04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457D-A8CF-49EE-8B75-BD14D3F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0BC6-CF0C-490D-A4B9-4488AB4B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914-C625-4B7C-9D43-AD894BC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7F50-E508-4430-AFC8-1AC953F2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9722B-7050-430A-9253-D7294129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1A64-1A39-4397-99EE-75180D8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237B0-2E96-444F-9C30-DF82EBC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D029-E1A5-4828-B3AE-064E5B6D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8408-1581-4C50-B952-FBBB6FE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A856-9F57-4E6C-8DF1-13BE9A2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20FA-CE00-456C-9E79-B1FC2FC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6442-1F00-4D8C-8CBA-731CBF7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252C-630B-4CA5-AF1D-A36D8C95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7C7-5D48-4FA3-A15A-DE69BA1E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D69E-05A7-4692-ACC5-3C46E82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4E1-19E8-4580-8154-A4A67B5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D5A-18BA-4D82-AF30-2BFE632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4CD-3242-4E0A-BE65-7E3F324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B368E-992A-48B2-9BC7-9E32AB43BA4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D366-85FB-4AF1-A342-1AAAEC986E1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6EBF9-C02B-4951-AD21-6C46CE7E24EA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82D80-D056-48C8-9E6E-2C95DF5EAEC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B0453-4C27-4FCC-AB19-2AB0CAF6CB6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KINDS OF TRIANGLES IN TERMS OF THEIR SIDES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hapes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07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prstGeom prst="pi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shapes according to the numbers of their sides (triangles)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riangles in terms of their sides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                          no sid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sceles                        2 equal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ateral                       3 sides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66960" y="3073320"/>
            <a:ext cx="1244880" cy="225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586320" y="39337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59" name="14 - Θέση περιεχομένου" descr="ep.png"/>
          <p:cNvPicPr/>
          <p:nvPr/>
        </p:nvPicPr>
        <p:blipFill>
          <a:blip r:embed="rId1"/>
          <a:stretch/>
        </p:blipFill>
        <p:spPr>
          <a:xfrm>
            <a:off x="1733400" y="287280"/>
            <a:ext cx="6891480" cy="55800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3" descr=""/>
          <p:cNvPicPr/>
          <p:nvPr/>
        </p:nvPicPr>
        <p:blipFill>
          <a:blip r:embed="rId2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9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23:55Z</dcterms:modified>
  <cp:revision>141</cp:revision>
  <dc:subject/>
  <dc:title>Παρουσίαση του PowerPoint</dc:title>
</cp:coreProperties>
</file>